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074-E841-414D-A36F-414BEAC4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2D5-31FD-4222-AFB8-32E15E06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92B-CF33-4590-BD7C-A41C94B0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75C-E774-4A50-B689-B3FD237E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AE4-8DED-42C0-ACA8-004E3D35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700-1CA6-4259-91BB-AFF77366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AB2-B6E6-4004-B0A4-3C1CAE69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AB0-52A8-481D-BEF7-8D89BBFC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D59-E431-4EF9-93EC-3AA652AA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8F9-22FC-47D3-8344-3D593BFB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B2D-A540-4129-9E8F-6D28F95F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B0F-2CC2-4E4B-ACCB-C5C89F60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26CB-B3D7-4031-B287-7EF49D387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98480" y="457200"/>
            <a:ext cx="5727960" cy="520560"/>
          </a:xfrm>
          <a:prstGeom prst="rect">
            <a:avLst/>
          </a:pr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概念      定律      方法      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57880" y="1471680"/>
            <a:ext cx="820800" cy="520560"/>
          </a:xfrm>
          <a:prstGeom prst="rect">
            <a:avLst/>
          </a:prstGeom>
          <a:noFill/>
          <a:ln cap="rnd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电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202800" y="1371600"/>
            <a:ext cx="1034280" cy="520560"/>
          </a:xfrm>
          <a:prstGeom prst="rect">
            <a:avLst/>
          </a:prstGeom>
          <a:noFill/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稳恒磁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2168280" y="1066320"/>
            <a:ext cx="4551480" cy="405360"/>
            <a:chOff x="2168280" y="1066320"/>
            <a:chExt cx="4551480" cy="405360"/>
          </a:xfrm>
        </p:grpSpPr>
        <p:cxnSp>
          <p:nvCxnSpPr>
            <p:cNvPr id="45" name="AutoShape 6"/>
            <p:cNvCxnSpPr>
              <a:endCxn id="42" idx="0"/>
            </p:cNvCxnSpPr>
            <p:nvPr/>
          </p:nvCxnSpPr>
          <p:spPr>
            <a:xfrm flipH="1">
              <a:off x="2168280" y="1066320"/>
              <a:ext cx="2394720" cy="40572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miter/>
            </a:ln>
          </p:spPr>
        </p:cxnSp>
        <p:cxnSp>
          <p:nvCxnSpPr>
            <p:cNvPr id="46" name="AutoShape 7"/>
            <p:cNvCxnSpPr>
              <a:endCxn id="43" idx="0"/>
            </p:cNvCxnSpPr>
            <p:nvPr/>
          </p:nvCxnSpPr>
          <p:spPr>
            <a:xfrm>
              <a:off x="4562640" y="1066320"/>
              <a:ext cx="2157480" cy="30564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miter/>
            </a:ln>
          </p:spPr>
        </p:cxnSp>
      </p:grpSp>
      <p:sp>
        <p:nvSpPr>
          <p:cNvPr id="47" name="Text Box 8"/>
          <p:cNvSpPr/>
          <p:nvPr/>
        </p:nvSpPr>
        <p:spPr>
          <a:xfrm>
            <a:off x="4193280" y="1419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类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685800" y="2209680"/>
            <a:ext cx="2819520" cy="812880"/>
            <a:chOff x="685800" y="2209680"/>
            <a:chExt cx="2819520" cy="812880"/>
          </a:xfrm>
        </p:grpSpPr>
        <mc:AlternateContent>
          <mc:Choice xmlns:a14="http://schemas.microsoft.com/office/drawing/2010/main" Requires="a14">
            <p:sp>
              <p:nvSpPr>
                <p:cNvPr id="49" name="Object 10"/>
                <p:cNvSpPr txBox="1"/>
                <p:nvPr/>
              </p:nvSpPr>
              <p:spPr>
                <a:xfrm>
                  <a:off x="1752480" y="2262240"/>
                  <a:ext cx="16765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q</m:t>
                          </m:r>
                        </m:num>
                        <m:den>
                          <m:r>
                            <m:t xml:space="preserve">4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πε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0" name="Text Box 11"/>
            <p:cNvSpPr/>
            <p:nvPr/>
          </p:nvSpPr>
          <p:spPr>
            <a:xfrm>
              <a:off x="882000" y="23619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楷体_GB2312"/>
                  <a:ea typeface="楷体_GB2312"/>
                </a:rPr>
                <a:t>点电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685800" y="2209680"/>
              <a:ext cx="2819520" cy="762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5562720" y="2133720"/>
            <a:ext cx="2971800" cy="838080"/>
            <a:chOff x="5562720" y="2133720"/>
            <a:chExt cx="2971800" cy="838080"/>
          </a:xfrm>
        </p:grpSpPr>
        <mc:AlternateContent>
          <mc:Choice xmlns:a14="http://schemas.microsoft.com/office/drawing/2010/main" Requires="a14">
            <p:sp>
              <p:nvSpPr>
                <p:cNvPr id="53" name="Object 14"/>
                <p:cNvSpPr txBox="1"/>
                <p:nvPr/>
              </p:nvSpPr>
              <p:spPr>
                <a:xfrm>
                  <a:off x="6553080" y="2212920"/>
                  <a:ext cx="187020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Id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l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acc>
                        </m:num>
                        <m:den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4" name="Text Box 15"/>
            <p:cNvSpPr/>
            <p:nvPr/>
          </p:nvSpPr>
          <p:spPr>
            <a:xfrm>
              <a:off x="5562720" y="23623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楷体_GB2312"/>
                  <a:ea typeface="楷体_GB2312"/>
                </a:rPr>
                <a:t>电流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5562720" y="2133720"/>
              <a:ext cx="2971800" cy="838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914400" y="3137040"/>
            <a:ext cx="2971800" cy="1193760"/>
            <a:chOff x="914400" y="3137040"/>
            <a:chExt cx="2971800" cy="1193760"/>
          </a:xfrm>
        </p:grpSpPr>
        <p:grpSp>
          <p:nvGrpSpPr>
            <p:cNvPr id="57" name="Group 18"/>
            <p:cNvGrpSpPr/>
            <p:nvPr/>
          </p:nvGrpSpPr>
          <p:grpSpPr>
            <a:xfrm>
              <a:off x="944640" y="3213360"/>
              <a:ext cx="2941560" cy="1117440"/>
              <a:chOff x="944640" y="3213360"/>
              <a:chExt cx="2941560" cy="1117440"/>
            </a:xfrm>
          </p:grpSpPr>
          <mc:AlternateContent>
            <mc:Choice xmlns:a14="http://schemas.microsoft.com/office/drawing/2010/main" Requires="a14">
              <p:sp>
                <p:nvSpPr>
                  <p:cNvPr id="58" name="Object 19"/>
                  <p:cNvSpPr txBox="1"/>
                  <p:nvPr/>
                </p:nvSpPr>
                <p:spPr>
                  <a:xfrm>
                    <a:off x="1409760" y="3529080"/>
                    <a:ext cx="1373400" cy="80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" name="Text Box 20"/>
              <p:cNvSpPr/>
              <p:nvPr/>
            </p:nvSpPr>
            <p:spPr>
              <a:xfrm>
                <a:off x="944640" y="3213360"/>
                <a:ext cx="294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6600"/>
                    </a:solidFill>
                    <a:latin typeface="楷体_GB2312"/>
                    <a:ea typeface="楷体_GB2312"/>
                  </a:rPr>
                  <a:t>无限长均匀带电直线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Rectangle 21"/>
            <p:cNvSpPr/>
            <p:nvPr/>
          </p:nvSpPr>
          <p:spPr>
            <a:xfrm>
              <a:off x="914400" y="3137040"/>
              <a:ext cx="2590920" cy="1143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2"/>
          <p:cNvGrpSpPr/>
          <p:nvPr/>
        </p:nvGrpSpPr>
        <p:grpSpPr>
          <a:xfrm>
            <a:off x="5562720" y="3124080"/>
            <a:ext cx="2361600" cy="1089000"/>
            <a:chOff x="5562720" y="3124080"/>
            <a:chExt cx="2361600" cy="1089000"/>
          </a:xfrm>
        </p:grpSpPr>
        <p:grpSp>
          <p:nvGrpSpPr>
            <p:cNvPr id="62" name="Group 23"/>
            <p:cNvGrpSpPr/>
            <p:nvPr/>
          </p:nvGrpSpPr>
          <p:grpSpPr>
            <a:xfrm>
              <a:off x="5586120" y="3124080"/>
              <a:ext cx="2338200" cy="1089000"/>
              <a:chOff x="5586120" y="3124080"/>
              <a:chExt cx="2338200" cy="1089000"/>
            </a:xfrm>
          </p:grpSpPr>
          <mc:AlternateContent>
            <mc:Choice xmlns:a14="http://schemas.microsoft.com/office/drawing/2010/main" Requires="a14">
              <p:sp>
                <p:nvSpPr>
                  <p:cNvPr id="63" name="Object 24"/>
                  <p:cNvSpPr txBox="1"/>
                  <p:nvPr/>
                </p:nvSpPr>
                <p:spPr>
                  <a:xfrm>
                    <a:off x="6044760" y="3479760"/>
                    <a:ext cx="1091880" cy="73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4" name="Text Box 25"/>
              <p:cNvSpPr/>
              <p:nvPr/>
            </p:nvSpPr>
            <p:spPr>
              <a:xfrm>
                <a:off x="5586120" y="3124080"/>
                <a:ext cx="233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6600"/>
                    </a:solidFill>
                    <a:latin typeface="楷体_GB2312"/>
                    <a:ea typeface="楷体_GB2312"/>
                  </a:rPr>
                  <a:t>无限长载流直线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Rectangle 26"/>
            <p:cNvSpPr/>
            <p:nvPr/>
          </p:nvSpPr>
          <p:spPr>
            <a:xfrm>
              <a:off x="5562720" y="3124080"/>
              <a:ext cx="2133360" cy="106704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7"/>
          <p:cNvGrpSpPr/>
          <p:nvPr/>
        </p:nvGrpSpPr>
        <p:grpSpPr>
          <a:xfrm>
            <a:off x="380880" y="4403880"/>
            <a:ext cx="3581280" cy="1767960"/>
            <a:chOff x="380880" y="4403880"/>
            <a:chExt cx="3581280" cy="1767960"/>
          </a:xfrm>
        </p:grpSpPr>
        <p:grpSp>
          <p:nvGrpSpPr>
            <p:cNvPr id="67" name="Group 28"/>
            <p:cNvGrpSpPr/>
            <p:nvPr/>
          </p:nvGrpSpPr>
          <p:grpSpPr>
            <a:xfrm>
              <a:off x="380880" y="4403880"/>
              <a:ext cx="3581280" cy="1694160"/>
              <a:chOff x="380880" y="4403880"/>
              <a:chExt cx="3581280" cy="1694160"/>
            </a:xfrm>
          </p:grpSpPr>
          <mc:AlternateContent>
            <mc:Choice xmlns:a14="http://schemas.microsoft.com/office/drawing/2010/main" Requires="a14">
              <p:sp>
                <p:nvSpPr>
                  <p:cNvPr id="68" name="Object 29"/>
                  <p:cNvSpPr txBox="1"/>
                  <p:nvPr/>
                </p:nvSpPr>
                <p:spPr>
                  <a:xfrm>
                    <a:off x="685800" y="4786200"/>
                    <a:ext cx="2436840" cy="852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q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9" name="Object 30"/>
                  <p:cNvSpPr txBox="1"/>
                  <p:nvPr/>
                </p:nvSpPr>
                <p:spPr>
                  <a:xfrm>
                    <a:off x="1833480" y="5778360"/>
                    <a:ext cx="604800" cy="31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0" name="Text Box 31"/>
              <p:cNvSpPr/>
              <p:nvPr/>
            </p:nvSpPr>
            <p:spPr>
              <a:xfrm>
                <a:off x="380880" y="4403880"/>
                <a:ext cx="358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6600"/>
                    </a:solidFill>
                    <a:latin typeface="楷体_GB2312"/>
                    <a:ea typeface="楷体_GB2312"/>
                  </a:rPr>
                  <a:t>均匀带电圆环轴线上一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32"/>
              <p:cNvSpPr/>
              <p:nvPr/>
            </p:nvSpPr>
            <p:spPr>
              <a:xfrm>
                <a:off x="1058760" y="56991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6600"/>
                    </a:solidFill>
                    <a:latin typeface="楷体_GB2312"/>
                    <a:ea typeface="楷体_GB2312"/>
                  </a:rPr>
                  <a:t>圆心处：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Rectangle 33"/>
            <p:cNvSpPr/>
            <p:nvPr/>
          </p:nvSpPr>
          <p:spPr>
            <a:xfrm>
              <a:off x="380880" y="4419360"/>
              <a:ext cx="3124080" cy="175248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4"/>
          <p:cNvGrpSpPr/>
          <p:nvPr/>
        </p:nvGrpSpPr>
        <p:grpSpPr>
          <a:xfrm>
            <a:off x="5562720" y="4267080"/>
            <a:ext cx="2666880" cy="1904760"/>
            <a:chOff x="5562720" y="4267080"/>
            <a:chExt cx="2666880" cy="1904760"/>
          </a:xfrm>
        </p:grpSpPr>
        <p:grpSp>
          <p:nvGrpSpPr>
            <p:cNvPr id="74" name="Group 35"/>
            <p:cNvGrpSpPr/>
            <p:nvPr/>
          </p:nvGrpSpPr>
          <p:grpSpPr>
            <a:xfrm>
              <a:off x="5715000" y="4267080"/>
              <a:ext cx="2514600" cy="1904760"/>
              <a:chOff x="5715000" y="4267080"/>
              <a:chExt cx="2514600" cy="1904760"/>
            </a:xfrm>
          </p:grpSpPr>
          <mc:AlternateContent>
            <mc:Choice xmlns:a14="http://schemas.microsoft.com/office/drawing/2010/main" Requires="a14">
              <p:sp>
                <p:nvSpPr>
                  <p:cNvPr id="75" name="Object 36"/>
                  <p:cNvSpPr txBox="1"/>
                  <p:nvPr/>
                </p:nvSpPr>
                <p:spPr>
                  <a:xfrm>
                    <a:off x="6934320" y="5457600"/>
                    <a:ext cx="1011240" cy="71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76" name="Group 37"/>
              <p:cNvGrpSpPr/>
              <p:nvPr/>
            </p:nvGrpSpPr>
            <p:grpSpPr>
              <a:xfrm>
                <a:off x="5715000" y="4267080"/>
                <a:ext cx="2514600" cy="1145880"/>
                <a:chOff x="5715000" y="4267080"/>
                <a:chExt cx="2514600" cy="11458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7" name="Object 38"/>
                    <p:cNvSpPr txBox="1"/>
                    <p:nvPr/>
                  </p:nvSpPr>
                  <p:spPr>
                    <a:xfrm>
                      <a:off x="5791320" y="4593960"/>
                      <a:ext cx="2181240" cy="819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8" name="Text Box 39"/>
                <p:cNvSpPr/>
                <p:nvPr/>
              </p:nvSpPr>
              <p:spPr>
                <a:xfrm>
                  <a:off x="5715000" y="4267080"/>
                  <a:ext cx="251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6600"/>
                      </a:solidFill>
                      <a:latin typeface="楷体_GB2312"/>
                      <a:ea typeface="楷体_GB2312"/>
                    </a:rPr>
                    <a:t>圆电流轴线上一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Text Box 40"/>
              <p:cNvSpPr/>
              <p:nvPr/>
            </p:nvSpPr>
            <p:spPr>
              <a:xfrm>
                <a:off x="6088320" y="5562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6600"/>
                    </a:solidFill>
                    <a:latin typeface="楷体_GB2312"/>
                    <a:ea typeface="楷体_GB2312"/>
                  </a:rPr>
                  <a:t>圆心处：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41"/>
            <p:cNvSpPr/>
            <p:nvPr/>
          </p:nvSpPr>
          <p:spPr>
            <a:xfrm>
              <a:off x="5562720" y="4267080"/>
              <a:ext cx="2590920" cy="19047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0" y="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磁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684360" y="765000"/>
            <a:ext cx="81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板外任一点Ｐ的磁场方向平行于平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0" y="162864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面两侧与平面距离相等的两点（Ｐ与　）磁场大小相等方向反平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6"/>
              <p:cNvSpPr txBox="1"/>
              <p:nvPr/>
            </p:nvSpPr>
            <p:spPr>
              <a:xfrm>
                <a:off x="468360" y="2781360"/>
                <a:ext cx="7761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Text Box 8"/>
          <p:cNvSpPr/>
          <p:nvPr/>
        </p:nvSpPr>
        <p:spPr>
          <a:xfrm>
            <a:off x="0" y="3670200"/>
            <a:ext cx="4356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闭合回路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，　平行于平面，　，　垂直于平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539640" y="4221000"/>
                <a:ext cx="719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0"/>
              <p:cNvSpPr txBox="1"/>
              <p:nvPr/>
            </p:nvSpPr>
            <p:spPr>
              <a:xfrm>
                <a:off x="1258920" y="4221000"/>
                <a:ext cx="719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1"/>
              <p:cNvSpPr txBox="1"/>
              <p:nvPr/>
            </p:nvSpPr>
            <p:spPr>
              <a:xfrm>
                <a:off x="826920" y="4797360"/>
                <a:ext cx="576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2"/>
              <p:cNvSpPr txBox="1"/>
              <p:nvPr/>
            </p:nvSpPr>
            <p:spPr>
              <a:xfrm>
                <a:off x="1547640" y="4869000"/>
                <a:ext cx="648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36" name="Group 13"/>
          <p:cNvGrpSpPr/>
          <p:nvPr/>
        </p:nvGrpSpPr>
        <p:grpSpPr>
          <a:xfrm>
            <a:off x="4500720" y="2881440"/>
            <a:ext cx="4975200" cy="3009240"/>
            <a:chOff x="4500720" y="2881440"/>
            <a:chExt cx="4975200" cy="3009240"/>
          </a:xfrm>
        </p:grpSpPr>
        <p:sp>
          <p:nvSpPr>
            <p:cNvPr id="337" name="AutoShape 14"/>
            <p:cNvSpPr/>
            <p:nvPr/>
          </p:nvSpPr>
          <p:spPr>
            <a:xfrm rot="1054800">
              <a:off x="4957560" y="3908160"/>
              <a:ext cx="2622600" cy="744480"/>
            </a:xfrm>
            <a:prstGeom prst="parallelogram">
              <a:avLst>
                <a:gd name="adj" fmla="val 125008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 rot="19499400">
              <a:off x="5720040" y="3509640"/>
              <a:ext cx="2743200" cy="1752480"/>
            </a:xfrm>
            <a:prstGeom prst="parallelogram">
              <a:avLst>
                <a:gd name="adj" fmla="val 7445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 rot="1054800">
              <a:off x="6634080" y="4424400"/>
              <a:ext cx="2620800" cy="744480"/>
            </a:xfrm>
            <a:prstGeom prst="parallelogram">
              <a:avLst>
                <a:gd name="adj" fmla="val 12492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7"/>
            <p:cNvSpPr/>
            <p:nvPr/>
          </p:nvSpPr>
          <p:spPr>
            <a:xfrm flipV="1">
              <a:off x="7248600" y="346032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Object 18"/>
                <p:cNvSpPr txBox="1"/>
                <p:nvPr/>
              </p:nvSpPr>
              <p:spPr>
                <a:xfrm>
                  <a:off x="7366320" y="3376800"/>
                  <a:ext cx="50292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Line 19"/>
            <p:cNvSpPr/>
            <p:nvPr/>
          </p:nvSpPr>
          <p:spPr>
            <a:xfrm>
              <a:off x="7386840" y="4867200"/>
              <a:ext cx="20628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 flipH="1">
              <a:off x="7316640" y="5114880"/>
              <a:ext cx="27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 flipH="1">
              <a:off x="5415120" y="3890880"/>
              <a:ext cx="17784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>
              <a:off x="5415120" y="4043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7731360" y="4370400"/>
              <a:ext cx="20628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 flipV="1">
              <a:off x="7731360" y="4287600"/>
              <a:ext cx="276120" cy="8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25"/>
                <p:cNvSpPr txBox="1"/>
                <p:nvPr/>
              </p:nvSpPr>
              <p:spPr>
                <a:xfrm>
                  <a:off x="8158320" y="5262480"/>
                  <a:ext cx="5032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26"/>
                <p:cNvSpPr txBox="1"/>
                <p:nvPr/>
              </p:nvSpPr>
              <p:spPr>
                <a:xfrm>
                  <a:off x="8386920" y="4576680"/>
                  <a:ext cx="352440" cy="65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0" name="Object 27"/>
                <p:cNvSpPr txBox="1"/>
                <p:nvPr/>
              </p:nvSpPr>
              <p:spPr>
                <a:xfrm>
                  <a:off x="8972640" y="4287960"/>
                  <a:ext cx="503280" cy="65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Object 28"/>
                <p:cNvSpPr txBox="1"/>
                <p:nvPr/>
              </p:nvSpPr>
              <p:spPr>
                <a:xfrm>
                  <a:off x="5796000" y="3357720"/>
                  <a:ext cx="45252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2" name="Object 29"/>
                <p:cNvSpPr txBox="1"/>
                <p:nvPr/>
              </p:nvSpPr>
              <p:spPr>
                <a:xfrm>
                  <a:off x="4500720" y="4226040"/>
                  <a:ext cx="55404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3" name="Object 30"/>
                <p:cNvSpPr txBox="1"/>
                <p:nvPr/>
              </p:nvSpPr>
              <p:spPr>
                <a:xfrm>
                  <a:off x="5722920" y="3854520"/>
                  <a:ext cx="45432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76320" y="6048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由安培定律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76320" y="487692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见：无限大载流平面外的磁场是一均匀磁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990720" y="3657600"/>
                <a:ext cx="348588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7" name="Group 5"/>
          <p:cNvGrpSpPr/>
          <p:nvPr/>
        </p:nvGrpSpPr>
        <p:grpSpPr>
          <a:xfrm>
            <a:off x="533520" y="914400"/>
            <a:ext cx="8305560" cy="2909880"/>
            <a:chOff x="533520" y="914400"/>
            <a:chExt cx="8305560" cy="2909880"/>
          </a:xfrm>
        </p:grpSpPr>
        <mc:AlternateContent>
          <mc:Choice xmlns:a14="http://schemas.microsoft.com/office/drawing/2010/main" Requires="a14">
            <p:sp>
              <p:nvSpPr>
                <p:cNvPr id="358" name="Object 6"/>
                <p:cNvSpPr txBox="1"/>
                <p:nvPr/>
              </p:nvSpPr>
              <p:spPr>
                <a:xfrm>
                  <a:off x="533520" y="914400"/>
                  <a:ext cx="7229520" cy="290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∮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B</m:t>
                              </m:r>
                              <m:r>
                                <m:t xml:space="preserve">⋅</m:t>
                              </m:r>
                              <m:r>
                                <m:t xml:space="preserve">d</m:t>
                              </m:r>
                              <m:r>
                                <m:t xml:space="preserve">l</m:t>
                              </m:r>
                            </m:e>
                          </m:nary>
                        </m:e>
                        <m:e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pHide m:val="1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  <m:sup/>
                            <m:e>
                              <m:r>
                                <m:t xml:space="preserve">B</m:t>
                              </m:r>
                              <m:r>
                                <m:t xml:space="preserve">⋅</m:t>
                              </m:r>
                              <m:r>
                                <m:t xml:space="preserve">d</m:t>
                              </m:r>
                              <m:r>
                                <m:t xml:space="preserve">l</m:t>
                              </m:r>
                            </m:e>
                          </m:nary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  <m:supHide m:val="1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  <m:sup/>
                            <m:e>
                              <m:r>
                                <m:t xml:space="preserve">B</m:t>
                              </m:r>
                              <m:r>
                                <m:t xml:space="preserve">⋅</m:t>
                              </m:r>
                              <m:r>
                                <m:t xml:space="preserve">d</m:t>
                              </m:r>
                              <m:r>
                                <m:t xml:space="preserve">l</m:t>
                              </m:r>
                            </m:e>
                          </m:nary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  <m:supHide m:val="1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d</m:t>
                              </m:r>
                            </m:sub>
                            <m:sup/>
                            <m:e>
                              <m:r>
                                <m:t xml:space="preserve">B</m:t>
                              </m:r>
                              <m:r>
                                <m:t xml:space="preserve">⋅</m:t>
                              </m:r>
                              <m:r>
                                <m:t xml:space="preserve">d</m:t>
                              </m:r>
                              <m:r>
                                <m:t xml:space="preserve">l</m:t>
                              </m:r>
                            </m:e>
                          </m:nary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  <m:supHide m:val="1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sub>
                            <m:sup/>
                            <m:e>
                              <m:r>
                                <m:t xml:space="preserve">B</m:t>
                              </m:r>
                              <m:r>
                                <m:t xml:space="preserve">⋅</m:t>
                              </m:r>
                              <m:r>
                                <m:t xml:space="preserve">d</m:t>
                              </m:r>
                              <m:r>
                                <m:t xml:space="preserve">l</m:t>
                              </m:r>
                            </m:e>
                          </m:nary>
                        </m:e>
                        <m:e>
                          <m:r>
                            <m:t xml:space="preserve">B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ba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d</m:t>
                              </m:r>
                            </m:e>
                          </m:ba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Bl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j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Text Box 7"/>
            <p:cNvSpPr/>
            <p:nvPr/>
          </p:nvSpPr>
          <p:spPr>
            <a:xfrm>
              <a:off x="5562720" y="3108240"/>
              <a:ext cx="32763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8"/>
          <p:cNvGrpSpPr/>
          <p:nvPr/>
        </p:nvGrpSpPr>
        <p:grpSpPr>
          <a:xfrm>
            <a:off x="4419720" y="3837240"/>
            <a:ext cx="4571640" cy="2801520"/>
            <a:chOff x="4419720" y="3837240"/>
            <a:chExt cx="4571640" cy="2801520"/>
          </a:xfrm>
        </p:grpSpPr>
        <p:sp>
          <p:nvSpPr>
            <p:cNvPr id="361" name="AutoShape 9"/>
            <p:cNvSpPr/>
            <p:nvPr/>
          </p:nvSpPr>
          <p:spPr>
            <a:xfrm rot="1054800">
              <a:off x="4839480" y="4786920"/>
              <a:ext cx="2409840" cy="702720"/>
            </a:xfrm>
            <a:prstGeom prst="parallelogram">
              <a:avLst>
                <a:gd name="adj" fmla="val 12169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10"/>
            <p:cNvSpPr/>
            <p:nvPr/>
          </p:nvSpPr>
          <p:spPr>
            <a:xfrm rot="19499400">
              <a:off x="5540040" y="4410360"/>
              <a:ext cx="2520720" cy="1654920"/>
            </a:xfrm>
            <a:prstGeom prst="parallelogram">
              <a:avLst>
                <a:gd name="adj" fmla="val 72449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11"/>
            <p:cNvSpPr/>
            <p:nvPr/>
          </p:nvSpPr>
          <p:spPr>
            <a:xfrm rot="1054800">
              <a:off x="6379920" y="5274000"/>
              <a:ext cx="2408400" cy="702720"/>
            </a:xfrm>
            <a:prstGeom prst="parallelogram">
              <a:avLst>
                <a:gd name="adj" fmla="val 12162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2"/>
            <p:cNvSpPr/>
            <p:nvPr/>
          </p:nvSpPr>
          <p:spPr>
            <a:xfrm flipV="1">
              <a:off x="6944760" y="4364280"/>
              <a:ext cx="0" cy="6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13"/>
                <p:cNvSpPr txBox="1"/>
                <p:nvPr/>
              </p:nvSpPr>
              <p:spPr>
                <a:xfrm>
                  <a:off x="7052760" y="4285080"/>
                  <a:ext cx="46188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6" name="Line 14"/>
            <p:cNvSpPr/>
            <p:nvPr/>
          </p:nvSpPr>
          <p:spPr>
            <a:xfrm>
              <a:off x="7071840" y="5692320"/>
              <a:ext cx="189360" cy="23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5"/>
            <p:cNvSpPr/>
            <p:nvPr/>
          </p:nvSpPr>
          <p:spPr>
            <a:xfrm flipH="1">
              <a:off x="7007760" y="5926320"/>
              <a:ext cx="2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6"/>
            <p:cNvSpPr/>
            <p:nvPr/>
          </p:nvSpPr>
          <p:spPr>
            <a:xfrm flipH="1">
              <a:off x="5259600" y="4770360"/>
              <a:ext cx="163080" cy="14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5259960" y="4914720"/>
              <a:ext cx="2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8"/>
            <p:cNvSpPr/>
            <p:nvPr/>
          </p:nvSpPr>
          <p:spPr>
            <a:xfrm>
              <a:off x="7388280" y="5223240"/>
              <a:ext cx="189360" cy="23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9"/>
            <p:cNvSpPr/>
            <p:nvPr/>
          </p:nvSpPr>
          <p:spPr>
            <a:xfrm flipV="1">
              <a:off x="7388280" y="5145480"/>
              <a:ext cx="253440" cy="7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Object 20"/>
                <p:cNvSpPr txBox="1"/>
                <p:nvPr/>
              </p:nvSpPr>
              <p:spPr>
                <a:xfrm>
                  <a:off x="7780680" y="6065640"/>
                  <a:ext cx="4622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21"/>
                <p:cNvSpPr txBox="1"/>
                <p:nvPr/>
              </p:nvSpPr>
              <p:spPr>
                <a:xfrm>
                  <a:off x="7990920" y="5418000"/>
                  <a:ext cx="32364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22"/>
                <p:cNvSpPr txBox="1"/>
                <p:nvPr/>
              </p:nvSpPr>
              <p:spPr>
                <a:xfrm>
                  <a:off x="8529120" y="5145480"/>
                  <a:ext cx="462240" cy="62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Object 23"/>
                <p:cNvSpPr txBox="1"/>
                <p:nvPr/>
              </p:nvSpPr>
              <p:spPr>
                <a:xfrm>
                  <a:off x="5609880" y="4267080"/>
                  <a:ext cx="41580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Object 24"/>
                <p:cNvSpPr txBox="1"/>
                <p:nvPr/>
              </p:nvSpPr>
              <p:spPr>
                <a:xfrm>
                  <a:off x="4419720" y="5086800"/>
                  <a:ext cx="50904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Object 25"/>
                <p:cNvSpPr txBox="1"/>
                <p:nvPr/>
              </p:nvSpPr>
              <p:spPr>
                <a:xfrm>
                  <a:off x="5542560" y="4736160"/>
                  <a:ext cx="41724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8" name="Text Box 26"/>
          <p:cNvSpPr/>
          <p:nvPr/>
        </p:nvSpPr>
        <p:spPr>
          <a:xfrm>
            <a:off x="6243840" y="3124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方向：图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1295280" y="1579680"/>
                <a:ext cx="1508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3"/>
          <p:cNvSpPr/>
          <p:nvPr/>
        </p:nvSpPr>
        <p:spPr>
          <a:xfrm>
            <a:off x="1447920" y="79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静电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019920" y="776160"/>
            <a:ext cx="15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磁 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5410080" y="1576440"/>
                <a:ext cx="23623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5943600" y="3732120"/>
                <a:ext cx="1535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7"/>
              <p:cNvSpPr txBox="1"/>
              <p:nvPr/>
            </p:nvSpPr>
            <p:spPr>
              <a:xfrm>
                <a:off x="1028880" y="3581280"/>
                <a:ext cx="2287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7" name="Group 8"/>
          <p:cNvGrpSpPr/>
          <p:nvPr/>
        </p:nvGrpSpPr>
        <p:grpSpPr>
          <a:xfrm>
            <a:off x="3548160" y="338040"/>
            <a:ext cx="1515960" cy="885960"/>
            <a:chOff x="3548160" y="338040"/>
            <a:chExt cx="1515960" cy="885960"/>
          </a:xfrm>
        </p:grpSpPr>
        <p:sp>
          <p:nvSpPr>
            <p:cNvPr id="88" name="Text Box 9"/>
            <p:cNvSpPr/>
            <p:nvPr/>
          </p:nvSpPr>
          <p:spPr>
            <a:xfrm>
              <a:off x="3850920" y="483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比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10"/>
                <p:cNvSpPr txBox="1"/>
                <p:nvPr/>
              </p:nvSpPr>
              <p:spPr>
                <a:xfrm>
                  <a:off x="4498920" y="338040"/>
                  <a:ext cx="4888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" name="AutoShape 11"/>
            <p:cNvSpPr/>
            <p:nvPr/>
          </p:nvSpPr>
          <p:spPr>
            <a:xfrm>
              <a:off x="3548160" y="925560"/>
              <a:ext cx="1515960" cy="298440"/>
            </a:xfrm>
            <a:prstGeom prst="leftRightArrow">
              <a:avLst>
                <a:gd name="adj1" fmla="val 50000"/>
                <a:gd name="adj2" fmla="val 101122"/>
              </a:avLst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2"/>
          <p:cNvSpPr/>
          <p:nvPr/>
        </p:nvSpPr>
        <p:spPr>
          <a:xfrm>
            <a:off x="5578560" y="253044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场没有保守性，它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保守场，或无势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093320" y="253044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场有保守性，它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守场，或有势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25320" y="511992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力线起于正电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止于负电荷。静电场是有源场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029200" y="4754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力线闭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由磁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场是无源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4343400" y="1371600"/>
            <a:ext cx="0" cy="480060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533520" y="2362320"/>
            <a:ext cx="8001000" cy="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533520" y="3505320"/>
            <a:ext cx="8001000" cy="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533520" y="4572000"/>
            <a:ext cx="8001000" cy="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7010280" y="1752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磁场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752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毕奥</a:t>
            </a:r>
            <a:r>
              <a:rPr b="1" lang="en-US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---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萨伐尔定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3429000" y="1463760"/>
                <a:ext cx="23623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acc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5"/>
          <p:cNvSpPr/>
          <p:nvPr/>
        </p:nvSpPr>
        <p:spPr>
          <a:xfrm>
            <a:off x="914400" y="243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流产生磁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2971800" y="2438280"/>
                <a:ext cx="1143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Text Box 7"/>
          <p:cNvSpPr/>
          <p:nvPr/>
        </p:nvSpPr>
        <p:spPr>
          <a:xfrm>
            <a:off x="2286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安培环路定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8"/>
              <p:cNvSpPr txBox="1"/>
              <p:nvPr/>
            </p:nvSpPr>
            <p:spPr>
              <a:xfrm>
                <a:off x="2743200" y="3968640"/>
                <a:ext cx="22096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6" name="Text Box 9"/>
          <p:cNvSpPr/>
          <p:nvPr/>
        </p:nvSpPr>
        <p:spPr>
          <a:xfrm>
            <a:off x="1009800" y="3200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动电荷产生的磁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4057560" y="2971800"/>
                <a:ext cx="21146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acc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1"/>
          <p:cNvSpPr/>
          <p:nvPr/>
        </p:nvSpPr>
        <p:spPr>
          <a:xfrm>
            <a:off x="5711040" y="2438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磁场叠加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4267080" y="2666880"/>
            <a:ext cx="1067040" cy="0"/>
          </a:xfrm>
          <a:prstGeom prst="line">
            <a:avLst/>
          </a:prstGeom>
          <a:ln w="572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76320" y="990720"/>
            <a:ext cx="52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基本定理和定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28600" y="480996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磁场高斯定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5"/>
          <p:cNvGrpSpPr/>
          <p:nvPr/>
        </p:nvGrpSpPr>
        <p:grpSpPr>
          <a:xfrm>
            <a:off x="5867280" y="1600200"/>
            <a:ext cx="1142640" cy="398880"/>
            <a:chOff x="5867280" y="1600200"/>
            <a:chExt cx="1142640" cy="398880"/>
          </a:xfrm>
        </p:grpSpPr>
        <p:sp>
          <p:nvSpPr>
            <p:cNvPr id="113" name="Line 16"/>
            <p:cNvSpPr/>
            <p:nvPr/>
          </p:nvSpPr>
          <p:spPr>
            <a:xfrm>
              <a:off x="5867280" y="1966320"/>
              <a:ext cx="114264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7"/>
            <p:cNvSpPr/>
            <p:nvPr/>
          </p:nvSpPr>
          <p:spPr>
            <a:xfrm>
              <a:off x="6113520" y="16002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作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Object 18"/>
              <p:cNvSpPr txBox="1"/>
              <p:nvPr/>
            </p:nvSpPr>
            <p:spPr>
              <a:xfrm>
                <a:off x="2743200" y="4727520"/>
                <a:ext cx="1523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6" name="Text Box 19"/>
          <p:cNvSpPr/>
          <p:nvPr/>
        </p:nvSpPr>
        <p:spPr>
          <a:xfrm>
            <a:off x="441972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稳恒磁场无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601992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称磁场的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1"/>
          <p:cNvGrpSpPr/>
          <p:nvPr/>
        </p:nvGrpSpPr>
        <p:grpSpPr>
          <a:xfrm>
            <a:off x="5029200" y="3962520"/>
            <a:ext cx="990720" cy="398880"/>
            <a:chOff x="5029200" y="3962520"/>
            <a:chExt cx="990720" cy="398880"/>
          </a:xfrm>
        </p:grpSpPr>
        <p:sp>
          <p:nvSpPr>
            <p:cNvPr id="119" name="Line 22"/>
            <p:cNvSpPr/>
            <p:nvPr/>
          </p:nvSpPr>
          <p:spPr>
            <a:xfrm>
              <a:off x="5029200" y="4343400"/>
              <a:ext cx="99072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10280" y="3962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作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24"/>
          <p:cNvSpPr/>
          <p:nvPr/>
        </p:nvSpPr>
        <p:spPr>
          <a:xfrm>
            <a:off x="228600" y="553392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4.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安培定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5"/>
          <p:cNvSpPr/>
          <p:nvPr/>
        </p:nvSpPr>
        <p:spPr>
          <a:xfrm>
            <a:off x="685800" y="2590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6"/>
          <p:cNvSpPr/>
          <p:nvPr/>
        </p:nvSpPr>
        <p:spPr>
          <a:xfrm>
            <a:off x="704880" y="3352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7"/>
              <p:cNvSpPr txBox="1"/>
              <p:nvPr/>
            </p:nvSpPr>
            <p:spPr>
              <a:xfrm>
                <a:off x="2095560" y="5511960"/>
                <a:ext cx="1674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5" name="Rectangle 28"/>
          <p:cNvSpPr/>
          <p:nvPr/>
        </p:nvSpPr>
        <p:spPr>
          <a:xfrm>
            <a:off x="4038480" y="5600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场对电流元的作用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培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2590920" y="21276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本 章 小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28600" y="1676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场对载流导线的安培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4307040" y="1600200"/>
                <a:ext cx="17571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228600" y="2325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场对载流平面线圈的力矩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5273640" y="2286000"/>
                <a:ext cx="1584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225360" y="10699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场对运动电荷的作用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仑兹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7"/>
              <p:cNvSpPr txBox="1"/>
              <p:nvPr/>
            </p:nvSpPr>
            <p:spPr>
              <a:xfrm>
                <a:off x="5904000" y="977760"/>
                <a:ext cx="1584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3" name="Rectangle 8"/>
          <p:cNvSpPr/>
          <p:nvPr/>
        </p:nvSpPr>
        <p:spPr>
          <a:xfrm>
            <a:off x="304920" y="352584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电流的磁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6324480" y="2971440"/>
            <a:ext cx="2278800" cy="3834000"/>
            <a:chOff x="6324480" y="2971440"/>
            <a:chExt cx="2278800" cy="3834000"/>
          </a:xfrm>
        </p:grpSpPr>
        <p:sp>
          <p:nvSpPr>
            <p:cNvPr id="135" name="Rectangle 10"/>
            <p:cNvSpPr/>
            <p:nvPr/>
          </p:nvSpPr>
          <p:spPr>
            <a:xfrm>
              <a:off x="6324480" y="3527280"/>
              <a:ext cx="109800" cy="16588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6380280" y="5968800"/>
              <a:ext cx="18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8292960" y="5968800"/>
              <a:ext cx="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3"/>
            <p:cNvSpPr/>
            <p:nvPr/>
          </p:nvSpPr>
          <p:spPr>
            <a:xfrm>
              <a:off x="8178840" y="5861160"/>
              <a:ext cx="230040" cy="21420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 rot="2700000">
              <a:off x="7981200" y="5724360"/>
              <a:ext cx="1850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5"/>
            <p:cNvSpPr/>
            <p:nvPr/>
          </p:nvSpPr>
          <p:spPr>
            <a:xfrm>
              <a:off x="6380280" y="4078080"/>
              <a:ext cx="0" cy="389160"/>
            </a:xfrm>
            <a:prstGeom prst="line">
              <a:avLst/>
            </a:prstGeom>
            <a:ln w="50760">
              <a:solidFill>
                <a:srgbClr val="66ff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6"/>
            <p:cNvSpPr/>
            <p:nvPr/>
          </p:nvSpPr>
          <p:spPr>
            <a:xfrm>
              <a:off x="6380280" y="5189400"/>
              <a:ext cx="0" cy="835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6380280" y="5968800"/>
              <a:ext cx="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>
              <a:off x="6380280" y="6135480"/>
              <a:ext cx="65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9"/>
            <p:cNvSpPr/>
            <p:nvPr/>
          </p:nvSpPr>
          <p:spPr>
            <a:xfrm flipH="1">
              <a:off x="7515000" y="6135480"/>
              <a:ext cx="71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7110000" y="58896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1"/>
            <p:cNvSpPr/>
            <p:nvPr/>
          </p:nvSpPr>
          <p:spPr>
            <a:xfrm>
              <a:off x="8232480" y="608472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2"/>
            <p:cNvSpPr/>
            <p:nvPr/>
          </p:nvSpPr>
          <p:spPr>
            <a:xfrm flipV="1">
              <a:off x="6378480" y="2971440"/>
              <a:ext cx="0" cy="55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6378480" y="5194440"/>
              <a:ext cx="1793880" cy="7221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6378480" y="3527280"/>
              <a:ext cx="1793880" cy="23893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rc 25"/>
            <p:cNvSpPr/>
            <p:nvPr/>
          </p:nvSpPr>
          <p:spPr>
            <a:xfrm>
              <a:off x="6378480" y="3305160"/>
              <a:ext cx="239760" cy="3794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fill="none" w="21712" h="36874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  <a:cubicBezTo>
                    <a:pt x="21712" y="27328"/>
                    <a:pt x="19436" y="32822"/>
                    <a:pt x="15385" y="36873"/>
                  </a:cubicBezTo>
                </a:path>
                <a:path stroke="0" w="21712" h="36874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  <a:cubicBezTo>
                    <a:pt x="21712" y="27328"/>
                    <a:pt x="19436" y="32822"/>
                    <a:pt x="15385" y="36873"/>
                  </a:cubicBezTo>
                  <a:lnTo>
                    <a:pt x="112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rc 26"/>
            <p:cNvSpPr/>
            <p:nvPr/>
          </p:nvSpPr>
          <p:spPr>
            <a:xfrm>
              <a:off x="6437160" y="4916520"/>
              <a:ext cx="241560" cy="38088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712" h="36874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  <a:cubicBezTo>
                    <a:pt x="21712" y="27328"/>
                    <a:pt x="19436" y="32822"/>
                    <a:pt x="15385" y="36873"/>
                  </a:cubicBezTo>
                </a:path>
                <a:path stroke="0" w="21712" h="36874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  <a:cubicBezTo>
                    <a:pt x="21712" y="27328"/>
                    <a:pt x="19436" y="32822"/>
                    <a:pt x="15385" y="36873"/>
                  </a:cubicBezTo>
                  <a:lnTo>
                    <a:pt x="112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27"/>
                <p:cNvSpPr txBox="1"/>
                <p:nvPr/>
              </p:nvSpPr>
              <p:spPr>
                <a:xfrm>
                  <a:off x="6742080" y="4860720"/>
                  <a:ext cx="38736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28"/>
                <p:cNvSpPr txBox="1"/>
                <p:nvPr/>
              </p:nvSpPr>
              <p:spPr>
                <a:xfrm>
                  <a:off x="6622920" y="3193920"/>
                  <a:ext cx="41292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29"/>
                <p:cNvSpPr txBox="1"/>
                <p:nvPr/>
              </p:nvSpPr>
              <p:spPr>
                <a:xfrm>
                  <a:off x="6502320" y="4194000"/>
                  <a:ext cx="249480" cy="2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Object 30"/>
                <p:cNvSpPr txBox="1"/>
                <p:nvPr/>
              </p:nvSpPr>
              <p:spPr>
                <a:xfrm>
                  <a:off x="8247240" y="5527800"/>
                  <a:ext cx="30456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6" name="Object 31"/>
              <p:cNvSpPr txBox="1"/>
              <p:nvPr/>
            </p:nvSpPr>
            <p:spPr>
              <a:xfrm>
                <a:off x="2806560" y="3363840"/>
                <a:ext cx="31482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r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32"/>
          <p:cNvSpPr/>
          <p:nvPr/>
        </p:nvSpPr>
        <p:spPr>
          <a:xfrm>
            <a:off x="959400" y="4266000"/>
            <a:ext cx="17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限长载流直导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33"/>
              <p:cNvSpPr txBox="1"/>
              <p:nvPr/>
            </p:nvSpPr>
            <p:spPr>
              <a:xfrm>
                <a:off x="3305160" y="4127400"/>
                <a:ext cx="12384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Text Box 34"/>
          <p:cNvSpPr/>
          <p:nvPr/>
        </p:nvSpPr>
        <p:spPr>
          <a:xfrm>
            <a:off x="1021680" y="5028120"/>
            <a:ext cx="19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无限长载流直导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5"/>
              <p:cNvSpPr txBox="1"/>
              <p:nvPr/>
            </p:nvSpPr>
            <p:spPr>
              <a:xfrm>
                <a:off x="3622680" y="4889520"/>
                <a:ext cx="12254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Text Box 36"/>
          <p:cNvSpPr/>
          <p:nvPr/>
        </p:nvSpPr>
        <p:spPr>
          <a:xfrm>
            <a:off x="896760" y="5713920"/>
            <a:ext cx="15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导线延长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7"/>
              <p:cNvSpPr txBox="1"/>
              <p:nvPr/>
            </p:nvSpPr>
            <p:spPr>
              <a:xfrm>
                <a:off x="2971800" y="5791320"/>
                <a:ext cx="7621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Text Box 38"/>
          <p:cNvSpPr/>
          <p:nvPr/>
        </p:nvSpPr>
        <p:spPr>
          <a:xfrm>
            <a:off x="152280" y="395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磁场对带电粒子及电流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9"/>
          <p:cNvSpPr/>
          <p:nvPr/>
        </p:nvSpPr>
        <p:spPr>
          <a:xfrm>
            <a:off x="76320" y="2909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典型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0"/>
              <p:cNvSpPr txBox="1"/>
              <p:nvPr/>
            </p:nvSpPr>
            <p:spPr>
              <a:xfrm>
                <a:off x="7372440" y="2244600"/>
                <a:ext cx="15001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IS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280" y="3254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电流轴线上某点的磁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1371600" y="762120"/>
                <a:ext cx="24382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Text Box 4"/>
          <p:cNvSpPr/>
          <p:nvPr/>
        </p:nvSpPr>
        <p:spPr>
          <a:xfrm>
            <a:off x="457200" y="160020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手螺旋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46560" y="914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304920" y="10666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74840" y="2239920"/>
            <a:ext cx="28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流圆环圆心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2819520" y="2057400"/>
                <a:ext cx="1199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Text Box 9"/>
          <p:cNvSpPr/>
          <p:nvPr/>
        </p:nvSpPr>
        <p:spPr>
          <a:xfrm>
            <a:off x="2286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流圆弧圆心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2819520" y="2895480"/>
                <a:ext cx="28605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θ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5" name="Group 11"/>
          <p:cNvGrpSpPr/>
          <p:nvPr/>
        </p:nvGrpSpPr>
        <p:grpSpPr>
          <a:xfrm>
            <a:off x="4266360" y="380880"/>
            <a:ext cx="2939400" cy="1752840"/>
            <a:chOff x="4266360" y="380880"/>
            <a:chExt cx="2939400" cy="1752840"/>
          </a:xfrm>
        </p:grpSpPr>
        <p:sp>
          <p:nvSpPr>
            <p:cNvPr id="176" name="Oval 12"/>
            <p:cNvSpPr/>
            <p:nvPr/>
          </p:nvSpPr>
          <p:spPr>
            <a:xfrm>
              <a:off x="4590720" y="380880"/>
              <a:ext cx="669240" cy="175284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 flipV="1">
              <a:off x="4926600" y="1224360"/>
              <a:ext cx="1998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"/>
            <p:cNvSpPr/>
            <p:nvPr/>
          </p:nvSpPr>
          <p:spPr>
            <a:xfrm>
              <a:off x="6580800" y="12272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>
              <a:off x="4925520" y="12272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>
              <a:off x="4925520" y="422280"/>
              <a:ext cx="0" cy="8035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7"/>
            <p:cNvSpPr/>
            <p:nvPr/>
          </p:nvSpPr>
          <p:spPr>
            <a:xfrm>
              <a:off x="4623840" y="740520"/>
              <a:ext cx="374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  <a:ea typeface="楷体_GB2312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4926600" y="1411200"/>
              <a:ext cx="6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5979960" y="1411200"/>
              <a:ext cx="60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0"/>
            <p:cNvSpPr/>
            <p:nvPr/>
          </p:nvSpPr>
          <p:spPr>
            <a:xfrm>
              <a:off x="5615640" y="11502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  <a:ea typeface="楷体_GB2312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>
              <a:off x="4574520" y="1164960"/>
              <a:ext cx="0" cy="2462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2"/>
            <p:cNvSpPr/>
            <p:nvPr/>
          </p:nvSpPr>
          <p:spPr>
            <a:xfrm>
              <a:off x="4266360" y="90000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99"/>
                  </a:solidFill>
                  <a:latin typeface="Times New Roman"/>
                  <a:ea typeface="楷体_GB2312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3"/>
            <p:cNvSpPr/>
            <p:nvPr/>
          </p:nvSpPr>
          <p:spPr>
            <a:xfrm>
              <a:off x="6520320" y="72936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4"/>
            <p:cNvSpPr/>
            <p:nvPr/>
          </p:nvSpPr>
          <p:spPr>
            <a:xfrm>
              <a:off x="6868440" y="9000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  <a:ea typeface="楷体_GB2312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25"/>
          <p:cNvSpPr/>
          <p:nvPr/>
        </p:nvSpPr>
        <p:spPr>
          <a:xfrm>
            <a:off x="152280" y="3886200"/>
            <a:ext cx="31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直圆柱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6"/>
              <p:cNvSpPr txBox="1"/>
              <p:nvPr/>
            </p:nvSpPr>
            <p:spPr>
              <a:xfrm>
                <a:off x="380880" y="4495680"/>
                <a:ext cx="2514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Ir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π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r</m:t>
                            </m:r>
                            <m:r>
                              <m:t xml:space="preserve">&lt;</m:t>
                            </m:r>
                            <m:r>
                              <m:t xml:space="preserve">R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Rectangle 27"/>
          <p:cNvSpPr/>
          <p:nvPr/>
        </p:nvSpPr>
        <p:spPr>
          <a:xfrm>
            <a:off x="3581280" y="3886200"/>
            <a:ext cx="37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直载流螺线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8"/>
              <p:cNvSpPr txBox="1"/>
              <p:nvPr/>
            </p:nvSpPr>
            <p:spPr>
              <a:xfrm>
                <a:off x="4267080" y="4343400"/>
                <a:ext cx="22860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e>
                              <m:r>
                                <m:t xml:space="preserve">内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外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Text Box 29"/>
          <p:cNvSpPr/>
          <p:nvPr/>
        </p:nvSpPr>
        <p:spPr>
          <a:xfrm>
            <a:off x="3581280" y="5410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行载流螺线管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324480" y="5029200"/>
                <a:ext cx="25146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πr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内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外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457200"/>
            <a:ext cx="19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P292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254880" y="41400"/>
            <a:ext cx="4393080" cy="5951160"/>
            <a:chOff x="254880" y="41400"/>
            <a:chExt cx="4393080" cy="5951160"/>
          </a:xfrm>
        </p:grpSpPr>
        <p:sp>
          <p:nvSpPr>
            <p:cNvPr id="197" name="AutoShape 4"/>
            <p:cNvSpPr/>
            <p:nvPr/>
          </p:nvSpPr>
          <p:spPr>
            <a:xfrm rot="20254800">
              <a:off x="1218960" y="1143000"/>
              <a:ext cx="2420640" cy="219384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2193840"/>
                <a:gd name="textAreaBottom" fmla="*/ 917640 h 219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77" y="11873"/>
                  </a:moveTo>
                  <a:cubicBezTo>
                    <a:pt x="1436" y="11517"/>
                    <a:pt x="1416" y="11158"/>
                    <a:pt x="1416" y="10800"/>
                  </a:cubicBezTo>
                  <a:cubicBezTo>
                    <a:pt x="1416" y="5617"/>
                    <a:pt x="5617" y="1416"/>
                    <a:pt x="10800" y="1416"/>
                  </a:cubicBezTo>
                  <a:cubicBezTo>
                    <a:pt x="15982" y="1416"/>
                    <a:pt x="20184" y="5617"/>
                    <a:pt x="20184" y="10800"/>
                  </a:cubicBezTo>
                  <a:cubicBezTo>
                    <a:pt x="20184" y="11158"/>
                    <a:pt x="20163" y="11517"/>
                    <a:pt x="20122" y="11873"/>
                  </a:cubicBezTo>
                  <a:lnTo>
                    <a:pt x="21529" y="12035"/>
                  </a:lnTo>
                  <a:cubicBezTo>
                    <a:pt x="21576" y="11625"/>
                    <a:pt x="21600" y="1121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213"/>
                    <a:pt x="23" y="11625"/>
                    <a:pt x="70" y="12035"/>
                  </a:cubicBezTo>
                  <a:lnTo>
                    <a:pt x="1477" y="11873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>
              <a:off x="1371600" y="2819520"/>
              <a:ext cx="0" cy="28191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1523880" y="2743200"/>
              <a:ext cx="0" cy="28195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1219320" y="2286000"/>
              <a:ext cx="0" cy="30481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>
              <a:off x="3429000" y="1905120"/>
              <a:ext cx="0" cy="28954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>
              <a:off x="3581280" y="1905120"/>
              <a:ext cx="0" cy="28191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254880" y="1604520"/>
              <a:ext cx="3985920" cy="16448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2514600" y="152280"/>
              <a:ext cx="0" cy="579132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V="1">
              <a:off x="407520" y="4347720"/>
              <a:ext cx="3985560" cy="16448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"/>
            <p:cNvSpPr/>
            <p:nvPr/>
          </p:nvSpPr>
          <p:spPr>
            <a:xfrm>
              <a:off x="1219320" y="5257800"/>
              <a:ext cx="152280" cy="3808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96" h="240">
                  <a:moveTo>
                    <a:pt x="0" y="0"/>
                  </a:moveTo>
                  <a:cubicBezTo>
                    <a:pt x="16" y="52"/>
                    <a:pt x="32" y="104"/>
                    <a:pt x="48" y="144"/>
                  </a:cubicBezTo>
                  <a:cubicBezTo>
                    <a:pt x="64" y="184"/>
                    <a:pt x="88" y="224"/>
                    <a:pt x="96" y="24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4"/>
            <p:cNvSpPr/>
            <p:nvPr/>
          </p:nvSpPr>
          <p:spPr>
            <a:xfrm flipH="1" flipV="1">
              <a:off x="1676520" y="1599840"/>
              <a:ext cx="838080" cy="685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5"/>
            <p:cNvSpPr/>
            <p:nvPr/>
          </p:nvSpPr>
          <p:spPr>
            <a:xfrm>
              <a:off x="1749960" y="182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6"/>
            <p:cNvSpPr/>
            <p:nvPr/>
          </p:nvSpPr>
          <p:spPr>
            <a:xfrm flipH="1" flipV="1">
              <a:off x="914040" y="3885840"/>
              <a:ext cx="1600200" cy="12193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rc 17"/>
            <p:cNvSpPr/>
            <p:nvPr/>
          </p:nvSpPr>
          <p:spPr>
            <a:xfrm flipV="1" rot="12609000">
              <a:off x="1590120" y="4415400"/>
              <a:ext cx="2127240" cy="1081080"/>
            </a:xfrm>
            <a:custGeom>
              <a:avLst/>
              <a:gdLst>
                <a:gd name="textAreaLeft" fmla="*/ 0 w 2127240"/>
                <a:gd name="textAreaRight" fmla="*/ 2127600 w 2127240"/>
                <a:gd name="textAreaTop" fmla="*/ -36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fill="none" w="21528" h="20870">
                  <a:moveTo>
                    <a:pt x="5567" y="-1"/>
                  </a:moveTo>
                  <a:cubicBezTo>
                    <a:pt x="14391" y="2353"/>
                    <a:pt x="20782" y="10003"/>
                    <a:pt x="21527" y="19107"/>
                  </a:cubicBezTo>
                </a:path>
                <a:path stroke="0" w="21528" h="20870">
                  <a:moveTo>
                    <a:pt x="5567" y="-1"/>
                  </a:moveTo>
                  <a:cubicBezTo>
                    <a:pt x="14391" y="2353"/>
                    <a:pt x="20782" y="10003"/>
                    <a:pt x="21527" y="19107"/>
                  </a:cubicBezTo>
                  <a:lnTo>
                    <a:pt x="0" y="20870"/>
                  </a:lnTo>
                  <a:lnTo>
                    <a:pt x="5567" y="-1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4314960" y="426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9"/>
            <p:cNvSpPr/>
            <p:nvPr/>
          </p:nvSpPr>
          <p:spPr>
            <a:xfrm>
              <a:off x="603360" y="37339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0"/>
            <p:cNvSpPr/>
            <p:nvPr/>
          </p:nvSpPr>
          <p:spPr>
            <a:xfrm>
              <a:off x="2594160" y="414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2463480" y="5029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o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519280" y="220968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o</a:t>
              </a:r>
              <a:r>
                <a:rPr b="1" i="1" lang="en-US" sz="2400" spc="-1" strike="noStrike" baseline="22000">
                  <a:solidFill>
                    <a:srgbClr val="000000"/>
                  </a:solidFill>
                  <a:latin typeface="Times New Roman"/>
                  <a:ea typeface="仿宋_GB2312"/>
                </a:rPr>
                <a:t>`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1905120" y="2971800"/>
              <a:ext cx="0" cy="1066680"/>
            </a:xfrm>
            <a:prstGeom prst="line">
              <a:avLst/>
            </a:prstGeom>
            <a:ln cap="rnd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24"/>
              <p:cNvSpPr txBox="1"/>
              <p:nvPr/>
            </p:nvSpPr>
            <p:spPr>
              <a:xfrm>
                <a:off x="5943600" y="3468600"/>
                <a:ext cx="1447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5"/>
              <p:cNvSpPr txBox="1"/>
              <p:nvPr/>
            </p:nvSpPr>
            <p:spPr>
              <a:xfrm>
                <a:off x="6019920" y="4419720"/>
                <a:ext cx="1371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π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9" name="Group 26"/>
          <p:cNvGrpSpPr/>
          <p:nvPr/>
        </p:nvGrpSpPr>
        <p:grpSpPr>
          <a:xfrm>
            <a:off x="5181480" y="457200"/>
            <a:ext cx="3762000" cy="3276720"/>
            <a:chOff x="5181480" y="457200"/>
            <a:chExt cx="3762000" cy="3276720"/>
          </a:xfrm>
        </p:grpSpPr>
        <p:grpSp>
          <p:nvGrpSpPr>
            <p:cNvPr id="220" name="Group 27"/>
            <p:cNvGrpSpPr/>
            <p:nvPr/>
          </p:nvGrpSpPr>
          <p:grpSpPr>
            <a:xfrm>
              <a:off x="5181480" y="457200"/>
              <a:ext cx="3762000" cy="3276720"/>
              <a:chOff x="5181480" y="457200"/>
              <a:chExt cx="3762000" cy="3276720"/>
            </a:xfrm>
          </p:grpSpPr>
          <p:sp>
            <p:nvSpPr>
              <p:cNvPr id="221" name="AutoShape 28"/>
              <p:cNvSpPr/>
              <p:nvPr/>
            </p:nvSpPr>
            <p:spPr>
              <a:xfrm>
                <a:off x="5791320" y="990720"/>
                <a:ext cx="2438280" cy="2743200"/>
              </a:xfrm>
              <a:custGeom>
                <a:avLst/>
                <a:gdLst>
                  <a:gd name="textAreaLeft" fmla="*/ 0 w 2438280"/>
                  <a:gd name="textAreaRight" fmla="*/ 2438640 w 2438280"/>
                  <a:gd name="textAreaTop" fmla="*/ 0 h 2743200"/>
                  <a:gd name="textAreaBottom" fmla="*/ 979560 h 27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13" y="10800"/>
                    </a:moveTo>
                    <a:cubicBezTo>
                      <a:pt x="1013" y="5394"/>
                      <a:pt x="5394" y="1013"/>
                      <a:pt x="10800" y="1013"/>
                    </a:cubicBezTo>
                    <a:cubicBezTo>
                      <a:pt x="16205" y="1012"/>
                      <a:pt x="20586" y="5394"/>
                      <a:pt x="20587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1013" y="1080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29"/>
              <p:cNvSpPr/>
              <p:nvPr/>
            </p:nvSpPr>
            <p:spPr>
              <a:xfrm>
                <a:off x="5181480" y="2362320"/>
                <a:ext cx="36576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30"/>
              <p:cNvSpPr/>
              <p:nvPr/>
            </p:nvSpPr>
            <p:spPr>
              <a:xfrm flipV="1">
                <a:off x="7010280" y="685800"/>
                <a:ext cx="0" cy="2362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31"/>
              <p:cNvSpPr/>
              <p:nvPr/>
            </p:nvSpPr>
            <p:spPr>
              <a:xfrm>
                <a:off x="8610480" y="23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仿宋_GB2312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32"/>
              <p:cNvSpPr/>
              <p:nvPr/>
            </p:nvSpPr>
            <p:spPr>
              <a:xfrm>
                <a:off x="6713640" y="457200"/>
                <a:ext cx="37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仿宋_GB2312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33"/>
              <p:cNvSpPr/>
              <p:nvPr/>
            </p:nvSpPr>
            <p:spPr>
              <a:xfrm>
                <a:off x="7010280" y="2286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仿宋_GB2312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34"/>
              <p:cNvSpPr/>
              <p:nvPr/>
            </p:nvSpPr>
            <p:spPr>
              <a:xfrm>
                <a:off x="6095880" y="13716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35"/>
              <p:cNvSpPr/>
              <p:nvPr/>
            </p:nvSpPr>
            <p:spPr>
              <a:xfrm flipH="1">
                <a:off x="6400440" y="2362320"/>
                <a:ext cx="609480" cy="45720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36"/>
              <p:cNvSpPr/>
              <p:nvPr/>
            </p:nvSpPr>
            <p:spPr>
              <a:xfrm>
                <a:off x="6248520" y="1523880"/>
                <a:ext cx="761760" cy="7621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Object 37"/>
                  <p:cNvSpPr txBox="1"/>
                  <p:nvPr/>
                </p:nvSpPr>
                <p:spPr>
                  <a:xfrm>
                    <a:off x="5943600" y="2590920"/>
                    <a:ext cx="5176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Object 38"/>
                <p:cNvSpPr txBox="1"/>
                <p:nvPr/>
              </p:nvSpPr>
              <p:spPr>
                <a:xfrm>
                  <a:off x="6477120" y="1523880"/>
                  <a:ext cx="311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将薄板视为有许多无限长载流直导线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468360" y="260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  宽度为ｂ的金属薄板，其电流为Ｉ，求在薄板平面上，距板的一边为ｒ的Ｐ点的磁感应强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4906800" y="3284640"/>
            <a:ext cx="4237200" cy="2906640"/>
            <a:chOff x="4906800" y="3284640"/>
            <a:chExt cx="4237200" cy="2906640"/>
          </a:xfrm>
        </p:grpSpPr>
        <p:sp>
          <p:nvSpPr>
            <p:cNvPr id="235" name="Line 5"/>
            <p:cNvSpPr/>
            <p:nvPr/>
          </p:nvSpPr>
          <p:spPr>
            <a:xfrm flipH="1">
              <a:off x="4946760" y="5080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5937120" y="3403800"/>
              <a:ext cx="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7"/>
            <p:cNvSpPr/>
            <p:nvPr/>
          </p:nvSpPr>
          <p:spPr>
            <a:xfrm>
              <a:off x="7537320" y="340380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>
              <a:off x="5937120" y="5766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9"/>
            <p:cNvSpPr/>
            <p:nvPr/>
          </p:nvSpPr>
          <p:spPr>
            <a:xfrm>
              <a:off x="6927840" y="3480120"/>
              <a:ext cx="0" cy="213336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6318360" y="4699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1"/>
            <p:cNvSpPr/>
            <p:nvPr/>
          </p:nvSpPr>
          <p:spPr>
            <a:xfrm flipH="1">
              <a:off x="7004160" y="469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 flipV="1">
              <a:off x="8604360" y="4546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3"/>
            <p:cNvSpPr/>
            <p:nvPr/>
          </p:nvSpPr>
          <p:spPr>
            <a:xfrm>
              <a:off x="7537320" y="55375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4"/>
            <p:cNvSpPr/>
            <p:nvPr/>
          </p:nvSpPr>
          <p:spPr>
            <a:xfrm flipV="1">
              <a:off x="6242040" y="3784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"/>
            <p:cNvSpPr/>
            <p:nvPr/>
          </p:nvSpPr>
          <p:spPr>
            <a:xfrm>
              <a:off x="5935680" y="5842080"/>
              <a:ext cx="1601640" cy="349200"/>
            </a:xfrm>
            <a:custGeom>
              <a:avLst/>
              <a:gdLst>
                <a:gd name="textAreaLeft" fmla="*/ 0 w 1601640"/>
                <a:gd name="textAreaRight" fmla="*/ 1602000 w 16016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042" h="220">
                  <a:moveTo>
                    <a:pt x="0" y="79"/>
                  </a:moveTo>
                  <a:cubicBezTo>
                    <a:pt x="118" y="68"/>
                    <a:pt x="125" y="77"/>
                    <a:pt x="196" y="6"/>
                  </a:cubicBezTo>
                  <a:cubicBezTo>
                    <a:pt x="233" y="10"/>
                    <a:pt x="274" y="0"/>
                    <a:pt x="306" y="18"/>
                  </a:cubicBezTo>
                  <a:cubicBezTo>
                    <a:pt x="332" y="32"/>
                    <a:pt x="334" y="71"/>
                    <a:pt x="355" y="92"/>
                  </a:cubicBezTo>
                  <a:cubicBezTo>
                    <a:pt x="444" y="179"/>
                    <a:pt x="401" y="144"/>
                    <a:pt x="478" y="202"/>
                  </a:cubicBezTo>
                  <a:cubicBezTo>
                    <a:pt x="612" y="191"/>
                    <a:pt x="640" y="220"/>
                    <a:pt x="699" y="116"/>
                  </a:cubicBezTo>
                  <a:cubicBezTo>
                    <a:pt x="723" y="73"/>
                    <a:pt x="809" y="18"/>
                    <a:pt x="809" y="18"/>
                  </a:cubicBezTo>
                  <a:cubicBezTo>
                    <a:pt x="821" y="26"/>
                    <a:pt x="831" y="41"/>
                    <a:pt x="846" y="43"/>
                  </a:cubicBezTo>
                  <a:cubicBezTo>
                    <a:pt x="863" y="45"/>
                    <a:pt x="881" y="21"/>
                    <a:pt x="895" y="30"/>
                  </a:cubicBezTo>
                  <a:cubicBezTo>
                    <a:pt x="920" y="46"/>
                    <a:pt x="944" y="104"/>
                    <a:pt x="944" y="104"/>
                  </a:cubicBezTo>
                  <a:cubicBezTo>
                    <a:pt x="981" y="78"/>
                    <a:pt x="1010" y="50"/>
                    <a:pt x="1042" y="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6"/>
            <p:cNvSpPr/>
            <p:nvPr/>
          </p:nvSpPr>
          <p:spPr>
            <a:xfrm>
              <a:off x="5916600" y="3284640"/>
              <a:ext cx="1614600" cy="273240"/>
            </a:xfrm>
            <a:custGeom>
              <a:avLst/>
              <a:gdLst>
                <a:gd name="textAreaLeft" fmla="*/ 0 w 1614600"/>
                <a:gd name="textAreaRight" fmla="*/ 1614960 w 16146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17" h="172">
                  <a:moveTo>
                    <a:pt x="0" y="86"/>
                  </a:moveTo>
                  <a:cubicBezTo>
                    <a:pt x="12" y="82"/>
                    <a:pt x="29" y="84"/>
                    <a:pt x="36" y="74"/>
                  </a:cubicBezTo>
                  <a:cubicBezTo>
                    <a:pt x="51" y="53"/>
                    <a:pt x="61" y="0"/>
                    <a:pt x="61" y="0"/>
                  </a:cubicBezTo>
                  <a:cubicBezTo>
                    <a:pt x="118" y="4"/>
                    <a:pt x="176" y="4"/>
                    <a:pt x="233" y="13"/>
                  </a:cubicBezTo>
                  <a:cubicBezTo>
                    <a:pt x="258" y="17"/>
                    <a:pt x="306" y="37"/>
                    <a:pt x="306" y="37"/>
                  </a:cubicBezTo>
                  <a:cubicBezTo>
                    <a:pt x="338" y="84"/>
                    <a:pt x="350" y="92"/>
                    <a:pt x="404" y="74"/>
                  </a:cubicBezTo>
                  <a:cubicBezTo>
                    <a:pt x="486" y="78"/>
                    <a:pt x="571" y="61"/>
                    <a:pt x="649" y="86"/>
                  </a:cubicBezTo>
                  <a:cubicBezTo>
                    <a:pt x="674" y="94"/>
                    <a:pt x="666" y="135"/>
                    <a:pt x="674" y="160"/>
                  </a:cubicBezTo>
                  <a:cubicBezTo>
                    <a:pt x="678" y="172"/>
                    <a:pt x="699" y="168"/>
                    <a:pt x="711" y="172"/>
                  </a:cubicBezTo>
                  <a:cubicBezTo>
                    <a:pt x="750" y="146"/>
                    <a:pt x="775" y="111"/>
                    <a:pt x="821" y="98"/>
                  </a:cubicBezTo>
                  <a:cubicBezTo>
                    <a:pt x="853" y="89"/>
                    <a:pt x="919" y="74"/>
                    <a:pt x="919" y="74"/>
                  </a:cubicBezTo>
                  <a:cubicBezTo>
                    <a:pt x="935" y="78"/>
                    <a:pt x="951" y="86"/>
                    <a:pt x="968" y="86"/>
                  </a:cubicBezTo>
                  <a:cubicBezTo>
                    <a:pt x="985" y="86"/>
                    <a:pt x="1000" y="74"/>
                    <a:pt x="1017" y="7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17"/>
                <p:cNvSpPr txBox="1"/>
                <p:nvPr/>
              </p:nvSpPr>
              <p:spPr>
                <a:xfrm>
                  <a:off x="6983280" y="4133880"/>
                  <a:ext cx="630360" cy="48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Object 18"/>
                <p:cNvSpPr txBox="1"/>
                <p:nvPr/>
              </p:nvSpPr>
              <p:spPr>
                <a:xfrm>
                  <a:off x="7918560" y="5570640"/>
                  <a:ext cx="3776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9" name="Line 19"/>
            <p:cNvSpPr/>
            <p:nvPr/>
          </p:nvSpPr>
          <p:spPr>
            <a:xfrm>
              <a:off x="8604360" y="5384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Object 20"/>
                <p:cNvSpPr txBox="1"/>
                <p:nvPr/>
              </p:nvSpPr>
              <p:spPr>
                <a:xfrm>
                  <a:off x="8639280" y="4359600"/>
                  <a:ext cx="5047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Line 21"/>
            <p:cNvSpPr/>
            <p:nvPr/>
          </p:nvSpPr>
          <p:spPr>
            <a:xfrm>
              <a:off x="7004160" y="4851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Object 22"/>
                <p:cNvSpPr txBox="1"/>
                <p:nvPr/>
              </p:nvSpPr>
              <p:spPr>
                <a:xfrm>
                  <a:off x="6270480" y="3878280"/>
                  <a:ext cx="42084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Object 23"/>
                <p:cNvSpPr txBox="1"/>
                <p:nvPr/>
              </p:nvSpPr>
              <p:spPr>
                <a:xfrm>
                  <a:off x="6432480" y="5316840"/>
                  <a:ext cx="41904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Object 24"/>
                <p:cNvSpPr txBox="1"/>
                <p:nvPr/>
              </p:nvSpPr>
              <p:spPr>
                <a:xfrm>
                  <a:off x="8709120" y="4980240"/>
                  <a:ext cx="42048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Object 25"/>
                <p:cNvSpPr txBox="1"/>
                <p:nvPr/>
              </p:nvSpPr>
              <p:spPr>
                <a:xfrm>
                  <a:off x="4906800" y="5156280"/>
                  <a:ext cx="4208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Object 26"/>
                <p:cNvSpPr txBox="1"/>
                <p:nvPr/>
              </p:nvSpPr>
              <p:spPr>
                <a:xfrm>
                  <a:off x="7918560" y="4394520"/>
                  <a:ext cx="42048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7" name="Text Box 28"/>
          <p:cNvSpPr/>
          <p:nvPr/>
        </p:nvSpPr>
        <p:spPr>
          <a:xfrm>
            <a:off x="684360" y="2781360"/>
            <a:ext cx="4967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图示坐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x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，取离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标宽为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x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长直载流导线其电流为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30"/>
              <p:cNvSpPr txBox="1"/>
              <p:nvPr/>
            </p:nvSpPr>
            <p:spPr>
              <a:xfrm>
                <a:off x="1403280" y="4508640"/>
                <a:ext cx="158436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900000" y="5516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向：垂直薄板平面向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6320" y="0"/>
            <a:ext cx="86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典型载流直导线磁场公式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7"/>
          <p:cNvGrpSpPr/>
          <p:nvPr/>
        </p:nvGrpSpPr>
        <p:grpSpPr>
          <a:xfrm>
            <a:off x="4906800" y="1268280"/>
            <a:ext cx="4237200" cy="2906640"/>
            <a:chOff x="4906800" y="1268280"/>
            <a:chExt cx="4237200" cy="2906640"/>
          </a:xfrm>
        </p:grpSpPr>
        <p:sp>
          <p:nvSpPr>
            <p:cNvPr id="262" name="Line 8"/>
            <p:cNvSpPr/>
            <p:nvPr/>
          </p:nvSpPr>
          <p:spPr>
            <a:xfrm flipH="1">
              <a:off x="4946760" y="306396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9"/>
            <p:cNvSpPr/>
            <p:nvPr/>
          </p:nvSpPr>
          <p:spPr>
            <a:xfrm>
              <a:off x="5937120" y="1387440"/>
              <a:ext cx="0" cy="25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0"/>
            <p:cNvSpPr/>
            <p:nvPr/>
          </p:nvSpPr>
          <p:spPr>
            <a:xfrm>
              <a:off x="7537320" y="138744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1"/>
            <p:cNvSpPr/>
            <p:nvPr/>
          </p:nvSpPr>
          <p:spPr>
            <a:xfrm>
              <a:off x="5937120" y="37497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2"/>
            <p:cNvSpPr/>
            <p:nvPr/>
          </p:nvSpPr>
          <p:spPr>
            <a:xfrm>
              <a:off x="6927840" y="1463760"/>
              <a:ext cx="0" cy="213336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>
              <a:off x="6318360" y="2682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H="1">
              <a:off x="7004160" y="2682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8604360" y="2530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7537320" y="352116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 flipV="1">
              <a:off x="6242040" y="1767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5935680" y="3825720"/>
              <a:ext cx="1601640" cy="349200"/>
            </a:xfrm>
            <a:custGeom>
              <a:avLst/>
              <a:gdLst>
                <a:gd name="textAreaLeft" fmla="*/ 0 w 1601640"/>
                <a:gd name="textAreaRight" fmla="*/ 1602000 w 16016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042" h="220">
                  <a:moveTo>
                    <a:pt x="0" y="79"/>
                  </a:moveTo>
                  <a:cubicBezTo>
                    <a:pt x="118" y="68"/>
                    <a:pt x="125" y="77"/>
                    <a:pt x="196" y="6"/>
                  </a:cubicBezTo>
                  <a:cubicBezTo>
                    <a:pt x="233" y="10"/>
                    <a:pt x="274" y="0"/>
                    <a:pt x="306" y="18"/>
                  </a:cubicBezTo>
                  <a:cubicBezTo>
                    <a:pt x="332" y="32"/>
                    <a:pt x="334" y="71"/>
                    <a:pt x="355" y="92"/>
                  </a:cubicBezTo>
                  <a:cubicBezTo>
                    <a:pt x="444" y="179"/>
                    <a:pt x="401" y="144"/>
                    <a:pt x="478" y="202"/>
                  </a:cubicBezTo>
                  <a:cubicBezTo>
                    <a:pt x="612" y="191"/>
                    <a:pt x="640" y="220"/>
                    <a:pt x="699" y="116"/>
                  </a:cubicBezTo>
                  <a:cubicBezTo>
                    <a:pt x="723" y="73"/>
                    <a:pt x="809" y="18"/>
                    <a:pt x="809" y="18"/>
                  </a:cubicBezTo>
                  <a:cubicBezTo>
                    <a:pt x="821" y="26"/>
                    <a:pt x="831" y="41"/>
                    <a:pt x="846" y="43"/>
                  </a:cubicBezTo>
                  <a:cubicBezTo>
                    <a:pt x="863" y="45"/>
                    <a:pt x="881" y="21"/>
                    <a:pt x="895" y="30"/>
                  </a:cubicBezTo>
                  <a:cubicBezTo>
                    <a:pt x="920" y="46"/>
                    <a:pt x="944" y="104"/>
                    <a:pt x="944" y="104"/>
                  </a:cubicBezTo>
                  <a:cubicBezTo>
                    <a:pt x="981" y="78"/>
                    <a:pt x="1010" y="50"/>
                    <a:pt x="1042" y="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5916600" y="1268280"/>
              <a:ext cx="1614600" cy="273240"/>
            </a:xfrm>
            <a:custGeom>
              <a:avLst/>
              <a:gdLst>
                <a:gd name="textAreaLeft" fmla="*/ 0 w 1614600"/>
                <a:gd name="textAreaRight" fmla="*/ 1614960 w 16146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17" h="172">
                  <a:moveTo>
                    <a:pt x="0" y="86"/>
                  </a:moveTo>
                  <a:cubicBezTo>
                    <a:pt x="12" y="82"/>
                    <a:pt x="29" y="84"/>
                    <a:pt x="36" y="74"/>
                  </a:cubicBezTo>
                  <a:cubicBezTo>
                    <a:pt x="51" y="53"/>
                    <a:pt x="61" y="0"/>
                    <a:pt x="61" y="0"/>
                  </a:cubicBezTo>
                  <a:cubicBezTo>
                    <a:pt x="118" y="4"/>
                    <a:pt x="176" y="4"/>
                    <a:pt x="233" y="13"/>
                  </a:cubicBezTo>
                  <a:cubicBezTo>
                    <a:pt x="258" y="17"/>
                    <a:pt x="306" y="37"/>
                    <a:pt x="306" y="37"/>
                  </a:cubicBezTo>
                  <a:cubicBezTo>
                    <a:pt x="338" y="84"/>
                    <a:pt x="350" y="92"/>
                    <a:pt x="404" y="74"/>
                  </a:cubicBezTo>
                  <a:cubicBezTo>
                    <a:pt x="486" y="78"/>
                    <a:pt x="571" y="61"/>
                    <a:pt x="649" y="86"/>
                  </a:cubicBezTo>
                  <a:cubicBezTo>
                    <a:pt x="674" y="94"/>
                    <a:pt x="666" y="135"/>
                    <a:pt x="674" y="160"/>
                  </a:cubicBezTo>
                  <a:cubicBezTo>
                    <a:pt x="678" y="172"/>
                    <a:pt x="699" y="168"/>
                    <a:pt x="711" y="172"/>
                  </a:cubicBezTo>
                  <a:cubicBezTo>
                    <a:pt x="750" y="146"/>
                    <a:pt x="775" y="111"/>
                    <a:pt x="821" y="98"/>
                  </a:cubicBezTo>
                  <a:cubicBezTo>
                    <a:pt x="853" y="89"/>
                    <a:pt x="919" y="74"/>
                    <a:pt x="919" y="74"/>
                  </a:cubicBezTo>
                  <a:cubicBezTo>
                    <a:pt x="935" y="78"/>
                    <a:pt x="951" y="86"/>
                    <a:pt x="968" y="86"/>
                  </a:cubicBezTo>
                  <a:cubicBezTo>
                    <a:pt x="985" y="86"/>
                    <a:pt x="1000" y="74"/>
                    <a:pt x="1017" y="7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Object 20"/>
                <p:cNvSpPr txBox="1"/>
                <p:nvPr/>
              </p:nvSpPr>
              <p:spPr>
                <a:xfrm>
                  <a:off x="6983280" y="2117520"/>
                  <a:ext cx="630360" cy="48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Object 21"/>
                <p:cNvSpPr txBox="1"/>
                <p:nvPr/>
              </p:nvSpPr>
              <p:spPr>
                <a:xfrm>
                  <a:off x="7918560" y="3554280"/>
                  <a:ext cx="3776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Line 22"/>
            <p:cNvSpPr/>
            <p:nvPr/>
          </p:nvSpPr>
          <p:spPr>
            <a:xfrm>
              <a:off x="8604360" y="3368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Object 23"/>
                <p:cNvSpPr txBox="1"/>
                <p:nvPr/>
              </p:nvSpPr>
              <p:spPr>
                <a:xfrm>
                  <a:off x="8639280" y="2343240"/>
                  <a:ext cx="5047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8" name="Line 24"/>
            <p:cNvSpPr/>
            <p:nvPr/>
          </p:nvSpPr>
          <p:spPr>
            <a:xfrm>
              <a:off x="7004160" y="28353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Object 25"/>
                <p:cNvSpPr txBox="1"/>
                <p:nvPr/>
              </p:nvSpPr>
              <p:spPr>
                <a:xfrm>
                  <a:off x="6270480" y="1861920"/>
                  <a:ext cx="42084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Object 26"/>
                <p:cNvSpPr txBox="1"/>
                <p:nvPr/>
              </p:nvSpPr>
              <p:spPr>
                <a:xfrm>
                  <a:off x="6432480" y="3300480"/>
                  <a:ext cx="41904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Object 27"/>
                <p:cNvSpPr txBox="1"/>
                <p:nvPr/>
              </p:nvSpPr>
              <p:spPr>
                <a:xfrm>
                  <a:off x="8709120" y="2963880"/>
                  <a:ext cx="42048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Object 28"/>
                <p:cNvSpPr txBox="1"/>
                <p:nvPr/>
              </p:nvSpPr>
              <p:spPr>
                <a:xfrm>
                  <a:off x="4906800" y="3139920"/>
                  <a:ext cx="4208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Object 29"/>
                <p:cNvSpPr txBox="1"/>
                <p:nvPr/>
              </p:nvSpPr>
              <p:spPr>
                <a:xfrm>
                  <a:off x="7918560" y="2378160"/>
                  <a:ext cx="42048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4" name="Object 30"/>
              <p:cNvSpPr txBox="1"/>
              <p:nvPr/>
            </p:nvSpPr>
            <p:spPr>
              <a:xfrm>
                <a:off x="2195640" y="692280"/>
                <a:ext cx="171108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1"/>
              <p:cNvSpPr txBox="1"/>
              <p:nvPr/>
            </p:nvSpPr>
            <p:spPr>
              <a:xfrm>
                <a:off x="1187280" y="1916280"/>
                <a:ext cx="3313440" cy="31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x</m:t>
                                </m:r>
                              </m:den>
                            </m:f>
                          </m:e>
                        </m:nary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x</m:t>
                                </m:r>
                              </m:den>
                            </m:f>
                          </m:e>
                        </m:nary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179280" y="26028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．设电流均匀流过无限大导电平面，其电流密度为ｊ，（在平面内，通过电流垂直方向单位长度上的电流强度），求空间任意点的磁感应强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8"/>
              <p:cNvSpPr txBox="1"/>
              <p:nvPr/>
            </p:nvSpPr>
            <p:spPr>
              <a:xfrm>
                <a:off x="4751280" y="4702320"/>
                <a:ext cx="66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8" name="Group 9"/>
          <p:cNvGrpSpPr/>
          <p:nvPr/>
        </p:nvGrpSpPr>
        <p:grpSpPr>
          <a:xfrm>
            <a:off x="1017720" y="2378160"/>
            <a:ext cx="7599240" cy="2743200"/>
            <a:chOff x="1017720" y="2378160"/>
            <a:chExt cx="7599240" cy="2743200"/>
          </a:xfrm>
        </p:grpSpPr>
        <p:sp>
          <p:nvSpPr>
            <p:cNvPr id="289" name="AutoShape 10"/>
            <p:cNvSpPr/>
            <p:nvPr/>
          </p:nvSpPr>
          <p:spPr>
            <a:xfrm>
              <a:off x="1017720" y="2911680"/>
              <a:ext cx="2666880" cy="2209680"/>
            </a:xfrm>
            <a:prstGeom prst="cube">
              <a:avLst>
                <a:gd name="adj" fmla="val 474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 flipV="1">
              <a:off x="1627200" y="3140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2"/>
            <p:cNvSpPr/>
            <p:nvPr/>
          </p:nvSpPr>
          <p:spPr>
            <a:xfrm flipV="1">
              <a:off x="2008440" y="3140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3"/>
            <p:cNvSpPr/>
            <p:nvPr/>
          </p:nvSpPr>
          <p:spPr>
            <a:xfrm flipV="1">
              <a:off x="2389320" y="3140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Object 14"/>
                <p:cNvSpPr txBox="1"/>
                <p:nvPr/>
              </p:nvSpPr>
              <p:spPr>
                <a:xfrm>
                  <a:off x="2541600" y="3183120"/>
                  <a:ext cx="5558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Line 15"/>
            <p:cNvSpPr/>
            <p:nvPr/>
          </p:nvSpPr>
          <p:spPr>
            <a:xfrm>
              <a:off x="4675320" y="4110120"/>
              <a:ext cx="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Object 16"/>
                <p:cNvSpPr txBox="1"/>
                <p:nvPr/>
              </p:nvSpPr>
              <p:spPr>
                <a:xfrm>
                  <a:off x="4065840" y="3576600"/>
                  <a:ext cx="776160" cy="69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96" name="Group 17"/>
            <p:cNvGrpSpPr/>
            <p:nvPr/>
          </p:nvGrpSpPr>
          <p:grpSpPr>
            <a:xfrm>
              <a:off x="5894640" y="2987640"/>
              <a:ext cx="342720" cy="2057400"/>
              <a:chOff x="5894640" y="2987640"/>
              <a:chExt cx="342720" cy="2057400"/>
            </a:xfrm>
          </p:grpSpPr>
          <p:sp>
            <p:nvSpPr>
              <p:cNvPr id="297" name="Rectangle 18"/>
              <p:cNvSpPr/>
              <p:nvPr/>
            </p:nvSpPr>
            <p:spPr>
              <a:xfrm>
                <a:off x="5894640" y="2987640"/>
                <a:ext cx="342720" cy="20574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Group 19"/>
              <p:cNvGrpSpPr/>
              <p:nvPr/>
            </p:nvGrpSpPr>
            <p:grpSpPr>
              <a:xfrm>
                <a:off x="5924520" y="2987640"/>
                <a:ext cx="293760" cy="2057400"/>
                <a:chOff x="5924520" y="2987640"/>
                <a:chExt cx="293760" cy="2057400"/>
              </a:xfrm>
            </p:grpSpPr>
            <p:grpSp>
              <p:nvGrpSpPr>
                <p:cNvPr id="299" name="Group 20"/>
                <p:cNvGrpSpPr/>
                <p:nvPr/>
              </p:nvGrpSpPr>
              <p:grpSpPr>
                <a:xfrm>
                  <a:off x="5924520" y="2987640"/>
                  <a:ext cx="293760" cy="293760"/>
                  <a:chOff x="5924520" y="2987640"/>
                  <a:chExt cx="293760" cy="293760"/>
                </a:xfrm>
              </p:grpSpPr>
              <p:sp>
                <p:nvSpPr>
                  <p:cNvPr id="300" name="Oval 21"/>
                  <p:cNvSpPr/>
                  <p:nvPr/>
                </p:nvSpPr>
                <p:spPr>
                  <a:xfrm>
                    <a:off x="5924520" y="2987640"/>
                    <a:ext cx="293760" cy="293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Oval 22"/>
                  <p:cNvSpPr/>
                  <p:nvPr/>
                </p:nvSpPr>
                <p:spPr>
                  <a:xfrm>
                    <a:off x="6020640" y="3083760"/>
                    <a:ext cx="102240" cy="10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23"/>
                <p:cNvGrpSpPr/>
                <p:nvPr/>
              </p:nvGrpSpPr>
              <p:grpSpPr>
                <a:xfrm>
                  <a:off x="5924520" y="3281400"/>
                  <a:ext cx="293760" cy="293760"/>
                  <a:chOff x="5924520" y="3281400"/>
                  <a:chExt cx="293760" cy="293760"/>
                </a:xfrm>
              </p:grpSpPr>
              <p:sp>
                <p:nvSpPr>
                  <p:cNvPr id="303" name="Oval 24"/>
                  <p:cNvSpPr/>
                  <p:nvPr/>
                </p:nvSpPr>
                <p:spPr>
                  <a:xfrm>
                    <a:off x="5924520" y="3281400"/>
                    <a:ext cx="293760" cy="293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Oval 25"/>
                  <p:cNvSpPr/>
                  <p:nvPr/>
                </p:nvSpPr>
                <p:spPr>
                  <a:xfrm>
                    <a:off x="6020640" y="3377520"/>
                    <a:ext cx="102240" cy="10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Group 26"/>
                <p:cNvGrpSpPr/>
                <p:nvPr/>
              </p:nvGrpSpPr>
              <p:grpSpPr>
                <a:xfrm>
                  <a:off x="5924520" y="3575160"/>
                  <a:ext cx="293760" cy="293760"/>
                  <a:chOff x="5924520" y="3575160"/>
                  <a:chExt cx="293760" cy="293760"/>
                </a:xfrm>
              </p:grpSpPr>
              <p:sp>
                <p:nvSpPr>
                  <p:cNvPr id="306" name="Oval 27"/>
                  <p:cNvSpPr/>
                  <p:nvPr/>
                </p:nvSpPr>
                <p:spPr>
                  <a:xfrm>
                    <a:off x="5924520" y="3575160"/>
                    <a:ext cx="293760" cy="293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Oval 28"/>
                  <p:cNvSpPr/>
                  <p:nvPr/>
                </p:nvSpPr>
                <p:spPr>
                  <a:xfrm>
                    <a:off x="6020640" y="3671280"/>
                    <a:ext cx="102240" cy="10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29"/>
                <p:cNvGrpSpPr/>
                <p:nvPr/>
              </p:nvGrpSpPr>
              <p:grpSpPr>
                <a:xfrm>
                  <a:off x="5924520" y="3870360"/>
                  <a:ext cx="293760" cy="292320"/>
                  <a:chOff x="5924520" y="3870360"/>
                  <a:chExt cx="293760" cy="292320"/>
                </a:xfrm>
              </p:grpSpPr>
              <p:sp>
                <p:nvSpPr>
                  <p:cNvPr id="309" name="Oval 30"/>
                  <p:cNvSpPr/>
                  <p:nvPr/>
                </p:nvSpPr>
                <p:spPr>
                  <a:xfrm>
                    <a:off x="5924520" y="3870360"/>
                    <a:ext cx="293760" cy="292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31"/>
                  <p:cNvSpPr/>
                  <p:nvPr/>
                </p:nvSpPr>
                <p:spPr>
                  <a:xfrm>
                    <a:off x="6020640" y="3965760"/>
                    <a:ext cx="102240" cy="10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Group 32"/>
                <p:cNvGrpSpPr/>
                <p:nvPr/>
              </p:nvGrpSpPr>
              <p:grpSpPr>
                <a:xfrm>
                  <a:off x="5924520" y="4162680"/>
                  <a:ext cx="293760" cy="293400"/>
                  <a:chOff x="5924520" y="4162680"/>
                  <a:chExt cx="293760" cy="293400"/>
                </a:xfrm>
              </p:grpSpPr>
              <p:sp>
                <p:nvSpPr>
                  <p:cNvPr id="312" name="Oval 33"/>
                  <p:cNvSpPr/>
                  <p:nvPr/>
                </p:nvSpPr>
                <p:spPr>
                  <a:xfrm>
                    <a:off x="5924520" y="4162680"/>
                    <a:ext cx="293760" cy="29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Oval 34"/>
                  <p:cNvSpPr/>
                  <p:nvPr/>
                </p:nvSpPr>
                <p:spPr>
                  <a:xfrm>
                    <a:off x="6020640" y="4258440"/>
                    <a:ext cx="102240" cy="10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Group 35"/>
                <p:cNvGrpSpPr/>
                <p:nvPr/>
              </p:nvGrpSpPr>
              <p:grpSpPr>
                <a:xfrm>
                  <a:off x="5924520" y="4456080"/>
                  <a:ext cx="293760" cy="293760"/>
                  <a:chOff x="5924520" y="4456080"/>
                  <a:chExt cx="293760" cy="293760"/>
                </a:xfrm>
              </p:grpSpPr>
              <p:sp>
                <p:nvSpPr>
                  <p:cNvPr id="315" name="Oval 36"/>
                  <p:cNvSpPr/>
                  <p:nvPr/>
                </p:nvSpPr>
                <p:spPr>
                  <a:xfrm>
                    <a:off x="5924520" y="4456080"/>
                    <a:ext cx="293760" cy="293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37"/>
                  <p:cNvSpPr/>
                  <p:nvPr/>
                </p:nvSpPr>
                <p:spPr>
                  <a:xfrm>
                    <a:off x="6020640" y="4552200"/>
                    <a:ext cx="102240" cy="10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Group 38"/>
                <p:cNvGrpSpPr/>
                <p:nvPr/>
              </p:nvGrpSpPr>
              <p:grpSpPr>
                <a:xfrm>
                  <a:off x="5924520" y="4751640"/>
                  <a:ext cx="293760" cy="293400"/>
                  <a:chOff x="5924520" y="4751640"/>
                  <a:chExt cx="293760" cy="293400"/>
                </a:xfrm>
              </p:grpSpPr>
              <p:sp>
                <p:nvSpPr>
                  <p:cNvPr id="318" name="Oval 39"/>
                  <p:cNvSpPr/>
                  <p:nvPr/>
                </p:nvSpPr>
                <p:spPr>
                  <a:xfrm>
                    <a:off x="5924520" y="4751640"/>
                    <a:ext cx="293760" cy="29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Oval 40"/>
                  <p:cNvSpPr/>
                  <p:nvPr/>
                </p:nvSpPr>
                <p:spPr>
                  <a:xfrm>
                    <a:off x="6020640" y="4847400"/>
                    <a:ext cx="102240" cy="10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0" name="Line 41"/>
            <p:cNvSpPr/>
            <p:nvPr/>
          </p:nvSpPr>
          <p:spPr>
            <a:xfrm flipV="1">
              <a:off x="7952040" y="289044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 flipV="1">
              <a:off x="7952040" y="357660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3"/>
            <p:cNvSpPr/>
            <p:nvPr/>
          </p:nvSpPr>
          <p:spPr>
            <a:xfrm flipH="1" flipV="1">
              <a:off x="7342200" y="3423960"/>
              <a:ext cx="6098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 flipV="1">
              <a:off x="7418520" y="29671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5"/>
            <p:cNvSpPr/>
            <p:nvPr/>
          </p:nvSpPr>
          <p:spPr>
            <a:xfrm flipH="1" flipV="1">
              <a:off x="7951680" y="296676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Object 46"/>
                <p:cNvSpPr txBox="1"/>
                <p:nvPr/>
              </p:nvSpPr>
              <p:spPr>
                <a:xfrm>
                  <a:off x="7952040" y="4022640"/>
                  <a:ext cx="66492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Object 47"/>
                <p:cNvSpPr txBox="1"/>
                <p:nvPr/>
              </p:nvSpPr>
              <p:spPr>
                <a:xfrm>
                  <a:off x="7952040" y="2378160"/>
                  <a:ext cx="6649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4:56:33Z</dcterms:created>
  <dc:creator>longjinghua</dc:creator>
  <dc:description/>
  <dc:language>en-US</dc:language>
  <cp:lastModifiedBy>szu</cp:lastModifiedBy>
  <dcterms:modified xsi:type="dcterms:W3CDTF">2018-06-12T03:53:22Z</dcterms:modified>
  <cp:revision>9</cp:revision>
  <dc:subject/>
  <dc:title>幻灯片 1</dc:title>
</cp:coreProperties>
</file>